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ng" ContentType="image/png"/>
  <Override PartName="/ppt/media/image4.jpeg" ContentType="image/jpeg"/>
  <Override PartName="/ppt/media/image5.pct" ContentType="image/x-pict"/>
  <Override PartName="/ppt/media/image6.pct" ContentType="image/x-pict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07571-52FE-4B2F-B6FF-43193663A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BCA8-4B80-4DA6-AB08-2AF006E366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C25B-1197-41D7-8B07-C4922D4AF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9D78E-7726-4790-BCE6-47426E1D8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F5BB3-1ECF-4C0D-A96E-FD442C30F3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9BB7C-0BD8-4E3D-8A34-4BB0B7028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E89D0-9EA3-49F7-A398-F50FE893F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318DC-8CAA-4D3C-A421-47E5BC666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4C27-1B8A-4AD4-8C49-5E42B04E1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56F04-7672-4E6F-B9F2-885EC8441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845A8-A51E-41E7-8C29-DB3467CC5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618D8-FCAC-4EB1-9E96-09BFBA883F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13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Phenotype Ontology Me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Cold Spring Harb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November 19-20th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ea18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4092-0CD5-46E3-8EC1-220C414DBF47}" type="slidenum">
              <a:rPr b="1" lang="en-US" sz="1400" spc="-1" strike="noStrike">
                <a:solidFill>
                  <a:srgbClr val="ffea18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33200" y="6316560"/>
            <a:ext cx="1378080" cy="40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66040" y="457200"/>
            <a:ext cx="677196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The FlyBase Consortiu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rvard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Bloomington-Indi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niversity of California-Berke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ambridge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994360" y="5391000"/>
            <a:ext cx="1170000" cy="6415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1986120" y="5176800"/>
            <a:ext cx="1071360" cy="1058760"/>
            <a:chOff x="1986120" y="5176800"/>
            <a:chExt cx="1071360" cy="1058760"/>
          </a:xfrm>
        </p:grpSpPr>
        <p:sp>
          <p:nvSpPr>
            <p:cNvPr id="44" name=""/>
            <p:cNvSpPr/>
            <p:nvPr/>
          </p:nvSpPr>
          <p:spPr>
            <a:xfrm>
              <a:off x="1986120" y="5176800"/>
              <a:ext cx="1071360" cy="1058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2">
              <a:lum contrast="54000"/>
            </a:blip>
            <a:stretch/>
          </p:blipFill>
          <p:spPr>
            <a:xfrm>
              <a:off x="2108160" y="5221080"/>
              <a:ext cx="866880" cy="97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912400" y="233280"/>
            <a:ext cx="32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73000" y="1135080"/>
            <a:ext cx="75567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lyBase allele records inclu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urators for production database u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seful to biologis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523600" y="60660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Metho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6800" y="1725480"/>
            <a:ext cx="723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 candidate data-rich a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elect annotation from one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-annotate with Phenotype Ontolog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. Structur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. Vocabulary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. Practical proble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971720" y="203040"/>
            <a:ext cx="570060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292480" y="301680"/>
            <a:ext cx="6851520" cy="63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41600" y="203040"/>
            <a:ext cx="6983280" cy="655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820880" y="528480"/>
          <a:ext cx="12336480" cy="6031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0880" y="528480"/>
                    <a:ext cx="12336480" cy="603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280" y="314280"/>
            <a:ext cx="91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How much can we pack into on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360" y="1141560"/>
            <a:ext cx="8861400" cy="41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urrently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ng defective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enetic interac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le courtship behavior (sensu Insecta)\, song production |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 | abnormal | recessive, enhanceable { mle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nap-ts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Point - if values were linguistically distinct then no need to  state  ‘attribute’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statement as attribute would be implicit from the attribute:value relation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8640" y="314280"/>
            <a:ext cx="369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Another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1185840"/>
            <a:ext cx="846432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llele combin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 in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 manifest in: 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w system would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quantitative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gain - better were ‘quantitative’ attribute implicit and unst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with 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) spermatocyte &amp; aster | ab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06840" y="353880"/>
            <a:ext cx="40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ricky to expres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1880" y="1235160"/>
            <a:ext cx="77749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ree text thing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me nebenkern are associated with two centrio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nstead of one as in wild-typ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abnormal relationship between two observ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sb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laterals split near the distal tip as they elong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at later stages they appear to be split over 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f their leng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observables showing progressive de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6120" y="1327320"/>
            <a:ext cx="8215200" cy="43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a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AR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 few homozygotes exhibit neurons in the longitudi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racts that appear to stall at some of the commissur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rming nodular growth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behaviour of one observable in relation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‘</a:t>
            </a: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forming nodular growth’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gh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mic Sans MS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ollicle cells at the posterior of egg chamber 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senchymal-lik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transformation of one observable to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2720" y="228600"/>
            <a:ext cx="8282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18"/>
                </a:solidFill>
                <a:latin typeface="Comic Sans MS"/>
              </a:rPr>
              <a:t>Equivalent altern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_neuron ; CL:0000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tor neuron ; FBbt:000051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; GO:00056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_in_vivo ; CL:0000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dult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eproduction | male_fertility | male sterile | rec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real issue - if redundancy exists then utility of PO for providing comprehensive access to all phenotypes of same class is compromi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68520" y="264960"/>
            <a:ext cx="349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Structural iss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5360" y="890640"/>
            <a:ext cx="8888760" cy="44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nse of compound observable/attribute combin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Observa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 is in dorsal epithelium that makes the embryonic head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| 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mbryonic head epidermis | dorsal | qualitative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ut combined (bet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henotyp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orphogenesis of embryonic epithelium &amp; embryonic head epidermis |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cess | abn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a12"/>
                </a:solidFill>
                <a:latin typeface="Comic Sans MS"/>
              </a:rPr>
              <a:t>issue - attribute meaningful for one but not other observable - different kind of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-339840" y="990720"/>
            <a:ext cx="9483840" cy="50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ea18"/>
                </a:solidFill>
                <a:latin typeface="Comic Sans MS"/>
              </a:rPr>
              <a:t>FlyBase inclu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78,804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named allele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ea18"/>
                </a:solidFill>
                <a:latin typeface="Comic Sans MS"/>
              </a:rPr>
              <a:t>19,053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 Drosophilid 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ASSICAL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61,2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73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(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ETICALLY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GINEERED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LLE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17,5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.g. sty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Scer\UAS.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720160" y="366840"/>
            <a:ext cx="34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Curation issu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2120" y="1744560"/>
            <a:ext cx="81604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1: Need too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rowser where only relevant valu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for specific attribute are pres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“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statement builder” to assemble compound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phenotype terms sequentially from voc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2: Redundancy solver - would certain combination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       </a:t>
            </a: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be disallowed in statement buil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919240" y="233280"/>
            <a:ext cx="28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Answ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64800" y="960480"/>
            <a:ext cx="734616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1: Can the Phenotype Ontology represent all th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ntrolled data that</a:t>
            </a:r>
            <a:r>
              <a:rPr b="1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FlyBase allele records includ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potentially y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2: Can the Phenotype Ontology reduce the amou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of free text information in FlyBase allele record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yes, but probably not eliminate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3: Is the proposed system efficient enough f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urators for production database use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- 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4: Is the end product of this type of curati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useful to biologists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in searches yes though redundancy needs resolution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a12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a12"/>
                </a:solidFill>
                <a:latin typeface="Comic Sans MS"/>
              </a:rPr>
              <a:t>for browsing? have found users to be toler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93560" y="533520"/>
            <a:ext cx="8226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970640" y="636480"/>
            <a:ext cx="502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a18"/>
                </a:solidFill>
                <a:latin typeface="Comic Sans MS"/>
              </a:rPr>
              <a:t>Core vocabulari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04960" y="1778040"/>
            <a:ext cx="741528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henotypic class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bcv.ob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Anatomy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(fly_anatomy.obo,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O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es are associated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leles us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vocabularies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n conjunction wi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a12"/>
                </a:solidFill>
                <a:latin typeface="Comic Sans MS"/>
              </a:rPr>
              <a:t>controlled synt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2120" y="260280"/>
            <a:ext cx="231012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978280" y="2077920"/>
            <a:ext cx="510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The FlyBase record for sty</a:t>
            </a:r>
            <a:r>
              <a:rPr b="0" lang="en-GB" sz="2800" spc="-1" strike="noStrike" baseline="30000">
                <a:solidFill>
                  <a:srgbClr val="ffea18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5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(FBal0086316)</a:t>
            </a:r>
            <a:r>
              <a:rPr b="0" lang="en-GB" sz="2800" spc="-1" strike="noStrike" baseline="30000">
                <a:solidFill>
                  <a:srgbClr val="ffea18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ea18"/>
                </a:solidFill>
                <a:latin typeface="Comic Sans MS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-182160" y="3705840"/>
            <a:ext cx="8769960" cy="1922760"/>
            <a:chOff x="-182160" y="3705840"/>
            <a:chExt cx="8769960" cy="1922760"/>
          </a:xfrm>
        </p:grpSpPr>
        <p:sp>
          <p:nvSpPr>
            <p:cNvPr id="52" name=""/>
            <p:cNvSpPr/>
            <p:nvPr/>
          </p:nvSpPr>
          <p:spPr>
            <a:xfrm>
              <a:off x="-182160" y="3705840"/>
              <a:ext cx="87699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ic class: neuroanatomy defective | recess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chordotonal orga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Phenotype manifest in: midline glial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0720" y="3918240"/>
              <a:ext cx="7858080" cy="1403280"/>
            </a:xfrm>
            <a:prstGeom prst="rect">
              <a:avLst/>
            </a:prstGeom>
            <a:noFill/>
            <a:ln w="442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5360" y="20145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asci et al., 1999 used double mutant analysis to place sty in the EGF receptor signaling pathway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(GO:0007173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88560" y="430200"/>
            <a:ext cx="74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Genetic interactions…for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1520" y="3424320"/>
            <a:ext cx="9080640" cy="2506680"/>
            <a:chOff x="101520" y="3424320"/>
            <a:chExt cx="9080640" cy="2506680"/>
          </a:xfrm>
        </p:grpSpPr>
        <p:sp>
          <p:nvSpPr>
            <p:cNvPr id="57" name=""/>
            <p:cNvSpPr/>
            <p:nvPr/>
          </p:nvSpPr>
          <p:spPr>
            <a:xfrm>
              <a:off x="147600" y="3642480"/>
              <a:ext cx="90345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visibl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suppressor | dominant, eye { argo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GMR.PC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visibl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Genetic interaction: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enhancer | dominant, eye { S</a:t>
              </a:r>
              <a:r>
                <a:rPr b="0" lang="en-GB" sz="2400" spc="-1" strike="noStrike" baseline="30000">
                  <a:solidFill>
                    <a:srgbClr val="ffffff"/>
                  </a:solidFill>
                  <a:latin typeface="Comic Sans MS"/>
                </a:rPr>
                <a:t>hs.sev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520" y="3424320"/>
              <a:ext cx="8977320" cy="2489040"/>
            </a:xfrm>
            <a:prstGeom prst="rect">
              <a:avLst/>
            </a:prstGeom>
            <a:noFill/>
            <a:ln w="31680">
              <a:solidFill>
                <a:srgbClr val="ff0a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2000" y="2135880"/>
            <a:ext cx="7390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Single mutant phenotype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6,15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81,43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phenotypic data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397,8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760" y="492120"/>
            <a:ext cx="26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Numbers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435320" y="1547640"/>
            <a:ext cx="61790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Genetic interaction state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Phenotypic class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5,8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natomy: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39,68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otal multiple mutant phenotype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including free text: 131,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07520" y="600120"/>
            <a:ext cx="18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a18"/>
                </a:solidFill>
                <a:latin typeface="Comic Sans MS"/>
              </a:rPr>
              <a:t>more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52760" y="1386000"/>
            <a:ext cx="60498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atom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O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hemical metabo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emporal/developmental/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a12"/>
                </a:solidFill>
                <a:latin typeface="Comic Sans MS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320" y="314280"/>
            <a:ext cx="754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Phenotype Ontology idea so f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34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503800" y="606600"/>
            <a:ext cx="349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18"/>
                </a:solidFill>
                <a:latin typeface="Comic Sans MS"/>
              </a:rPr>
              <a:t>The Experim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37000" y="1681200"/>
            <a:ext cx="49158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9) Now each MOD should try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notate 50 objects using P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swop those aroun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Everyone do “50 units” … inclu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spects of assay, etc/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38760" y="51926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Judy Bla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ea18"/>
                </a:solidFill>
                <a:latin typeface="Comic Sans MS"/>
              </a:rPr>
              <a:t>May 2003 meeting’s Mi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3T19:25:25Z</dcterms:created>
  <dc:creator>Chihiro Yamada</dc:creator>
  <dc:description/>
  <dc:language>en-US</dc:language>
  <cp:lastModifiedBy>Rachel Drysdale</cp:lastModifiedBy>
  <dcterms:modified xsi:type="dcterms:W3CDTF">2005-11-19T09:09:05Z</dcterms:modified>
  <cp:revision>337</cp:revision>
  <dc:subject/>
  <dc:title>PowerPoint Presentation</dc:title>
</cp:coreProperties>
</file>